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683"/>
        <c:axId val="86478528"/>
      </c:barChart>
      <c:catAx>
        <c:axId val="2226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78528"/>
        <c:crosses val="autoZero"/>
        <c:auto val="1"/>
        <c:lblAlgn val="ctr"/>
        <c:lblOffset val="100"/>
        <c:noMultiLvlLbl val="0"/>
      </c:catAx>
      <c:valAx>
        <c:axId val="86478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6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300-C5FB-4EDC-86B1-D6EF77E4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B6BC-1191-437E-B809-F78DF202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B912-CE79-42E4-9D5D-BA11BA40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0213-2F61-45AF-861C-BFD361E2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AB1C-F519-4C7F-BE05-ACC673FE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6AD-B3DD-49B2-AF15-408B9AA6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5BC-1BB3-4FE6-B570-9A0E0D86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DA0-11D2-4819-A6CE-4570CD94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898-EE1B-4E27-8B32-49CB041E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252E-CD7A-41AB-98F5-9ED2A9A4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8B62-9464-4B22-A13F-A6CC2689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A7F9-B674-460D-A6B6-9108BE3B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CB721-D27D-4086-9530-65E85869DE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