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39775"/>
        <c:axId val="67478633"/>
      </c:barChart>
      <c:catAx>
        <c:axId val="93339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8633"/>
        <c:crosses val="autoZero"/>
        <c:auto val="1"/>
        <c:lblAlgn val="ctr"/>
        <c:lblOffset val="100"/>
        <c:noMultiLvlLbl val="0"/>
      </c:catAx>
      <c:valAx>
        <c:axId val="67478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9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A53-F249-40FC-B770-CB72092E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92F-632A-4C0B-9472-F5719D1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BD8-0393-44E4-94EB-D18CD84C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38C-255B-41AC-93EB-31C948E2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47A-3BC2-41B0-8712-4CFDD07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EEF-E96C-4615-A54D-D52E1F17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F8F-0110-4AA6-ACE1-750A1EA6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B98-88CE-4D5E-977A-31DDA11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FF8-E93A-4D40-AB80-A0744916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083-5984-4A34-8B81-5BD1C81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8D0-2CA3-4EF0-A568-DFEFE7F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162-BA8D-4BBE-A0B7-5B4C6B6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A11D-3197-420C-9E2B-EEB196300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