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76127"/>
        <c:axId val="42337411"/>
      </c:barChart>
      <c:catAx>
        <c:axId val="61176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37411"/>
        <c:crosses val="autoZero"/>
        <c:auto val="1"/>
        <c:lblAlgn val="ctr"/>
        <c:lblOffset val="100"/>
        <c:noMultiLvlLbl val="0"/>
      </c:catAx>
      <c:valAx>
        <c:axId val="42337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76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06C-03F0-471D-88E8-EF06917D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7DB-E565-4442-850A-8D175EF5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23B-5A41-42DE-98E0-AB76783D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59D-EC94-4F15-BDD9-E56F7AC6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E0B-1C7F-4435-80F4-5D4880C4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31D-CA53-4724-8040-2EB4022E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C7C-B94F-48B6-8D21-9207D4AB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62E-1DA9-476E-B27D-605822A6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3A8-4932-4EF4-87ED-9B611724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E42-278F-4B8A-AF65-DC3E66AD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B56-522D-4B88-97A9-C612CCF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3D0-8FA2-4BB8-B499-B16AA389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02214-21D0-4813-85DF-E1C65C8163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