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48784"/>
        <c:axId val="2797269"/>
      </c:barChart>
      <c:catAx>
        <c:axId val="26348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7269"/>
        <c:crosses val="autoZero"/>
        <c:auto val="1"/>
        <c:lblAlgn val="ctr"/>
        <c:lblOffset val="100"/>
        <c:noMultiLvlLbl val="0"/>
      </c:catAx>
      <c:valAx>
        <c:axId val="2797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48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BD7-E4D3-43C0-AF4F-E8419C82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720-3600-419C-9610-DDC77EB1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EEF-69AF-4D6C-B77A-DE56E19F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2D5-366A-4E76-8D9F-8AE4DC43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9BF-62E0-420E-9CA0-F0BE086D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3F0-A9D2-4DB7-A55F-D1C373F1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BDF-2A04-4FA7-BDEF-1AF6F67D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FD8-5B0F-4823-86B2-E9C2C46B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467-B340-4156-B0EB-F3F833AE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B35-48E5-44CF-82F0-D5AE7624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618-365B-47B1-9808-22246E38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6BB-5A83-414B-BCA1-EA87A7B1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527EC-67CE-4ACD-AAD3-9A9DE3114E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