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33592"/>
        <c:axId val="31942876"/>
      </c:barChart>
      <c:catAx>
        <c:axId val="71133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42876"/>
        <c:crosses val="autoZero"/>
        <c:auto val="1"/>
        <c:lblAlgn val="ctr"/>
        <c:lblOffset val="100"/>
        <c:noMultiLvlLbl val="0"/>
      </c:catAx>
      <c:valAx>
        <c:axId val="31942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33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C66-48AD-4593-9C53-FE94B37F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606-FE19-4BA7-974B-986BE683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6D5-62FD-41CF-B15E-0330C1F8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A06-A8B8-49A3-8AD7-89B9E1E6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624-09F5-4AB9-9786-76BCCDC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FDE-8359-48AF-BDBE-21108B8B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704-A89C-439B-90D7-CF54CC8A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2FA-3677-413A-885A-5B091D90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7C8-6920-467E-805E-A093413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272-E885-4CBC-B4E0-3E78238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C0A-8957-44B2-B52F-FD2CD95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230-9503-4913-A6F7-8DE68687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06421-D035-463B-A9C5-0E779FA35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