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84933"/>
        <c:axId val="6084400"/>
      </c:barChart>
      <c:catAx>
        <c:axId val="85784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4400"/>
        <c:crosses val="autoZero"/>
        <c:auto val="1"/>
        <c:lblAlgn val="ctr"/>
        <c:lblOffset val="100"/>
        <c:noMultiLvlLbl val="0"/>
      </c:catAx>
      <c:valAx>
        <c:axId val="6084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84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AF8-538F-404E-AF49-5C878D2D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1F1-3C79-4E1D-9C4D-A760D117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A21-833F-4F08-A365-2F3F3BE5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686-EE71-4E96-801C-7868A48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277-F729-434B-AA8A-66FF766E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964-E8D0-4D6E-9260-1F20056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846-A7E4-49C5-8A1E-DD1D6C4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5D7-DD3E-4B6D-82B1-F1C7B7E7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99D-2A91-483D-86DC-AFADFB85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64B-215E-48BE-977F-1AF796F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6F5-375B-4E4C-9D89-51B91F8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654-7542-48B4-8F7C-88C240B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01494-7919-49E0-96A0-58DC242B31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