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013883"/>
        <c:axId val="81768484"/>
      </c:barChart>
      <c:catAx>
        <c:axId val="550138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68484"/>
        <c:crosses val="autoZero"/>
        <c:auto val="1"/>
        <c:lblAlgn val="ctr"/>
        <c:lblOffset val="100"/>
        <c:noMultiLvlLbl val="0"/>
      </c:catAx>
      <c:valAx>
        <c:axId val="817684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138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A8DD-242F-4A18-88A1-B5744873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8BFB-B358-4688-89E3-F4061C84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B978-0154-4BB4-BF34-3BF2974E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22E4-E36E-4EC9-8ECC-60B08675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C23E-22DF-4013-8778-BE1CB288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7FF2-D6C1-4405-881F-B9BF7B3F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5B90-3A3E-4372-88D2-591AC63F6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A4A3-31CF-44AE-8200-A9C23684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734C-4EA0-42EE-96F0-88660058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4FC7-5466-42C0-8FDB-F43F7DDA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130D-CEBE-43F5-B2A3-4D5613A7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5F05-2D58-4A8C-9C14-A0E4EE52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5AEAB-CCF7-49D9-99F6-A303E877F4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