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02087"/>
        <c:axId val="76937890"/>
      </c:barChart>
      <c:catAx>
        <c:axId val="59702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37890"/>
        <c:crosses val="autoZero"/>
        <c:auto val="1"/>
        <c:lblAlgn val="ctr"/>
        <c:lblOffset val="100"/>
        <c:noMultiLvlLbl val="0"/>
      </c:catAx>
      <c:valAx>
        <c:axId val="76937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02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3B4-E17E-4295-87B1-49D5195B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309-AAB2-4E1B-A3C6-BAD664FD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11E-A58E-45BB-950C-2129704F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D1F-B36E-4452-918B-FCD2E461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A69-A1A3-4567-9298-732F5C9E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E2F-9A60-4190-8DB3-BF1CB018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192-9821-4990-A865-3637EA40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C18-2A39-40B4-8542-EAC23C79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90F-D2E1-4C36-846D-B07050CA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193-B52C-49B2-BFB2-83701813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22C-602D-4F9D-BA6B-1F06908B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E9C-0ACF-4CC1-99CC-4B75EFD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03177-2191-4CE2-BA34-FB24F5B2D0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