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074765"/>
        <c:axId val="95247415"/>
      </c:barChart>
      <c:catAx>
        <c:axId val="540747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47415"/>
        <c:crosses val="autoZero"/>
        <c:auto val="1"/>
        <c:lblAlgn val="ctr"/>
        <c:lblOffset val="100"/>
        <c:noMultiLvlLbl val="0"/>
      </c:catAx>
      <c:valAx>
        <c:axId val="95247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747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FA0A-F6D7-4FC1-B839-F50F6FC6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57CC-39C2-41DE-AC20-63E69791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BEF1-A7E2-4F79-8D01-2EA97FE3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25B6-1401-4E81-936C-0E8C7B84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C53-3A60-490B-8C5F-9404CC68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7009-49B4-4245-AED8-262A0082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966B-104A-4E60-9DE4-E259385D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903D-BB52-4438-B111-986ABCF6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E83A-48B3-4C87-8D26-86905912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425B-7EA2-4D8E-A1F2-7200B9AC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3CF6-B86B-4F6A-8E76-5AF4464B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EC0-C2DC-44D9-B01C-EB2BDD9E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DF381-694D-4AC9-8619-A6A7F1A21F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