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99887"/>
        <c:axId val="99793316"/>
      </c:barChart>
      <c:catAx>
        <c:axId val="16699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3316"/>
        <c:crosses val="autoZero"/>
        <c:auto val="1"/>
        <c:lblAlgn val="ctr"/>
        <c:lblOffset val="100"/>
        <c:noMultiLvlLbl val="0"/>
      </c:catAx>
      <c:valAx>
        <c:axId val="99793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99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8D9-1E8B-4690-95E3-5AA73B62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EEA-9873-4754-8D2A-7D3CC85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5FF-DDA9-4A67-BD0A-7DC946FF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ADC-F812-48F2-B76A-7139A393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6DE-DBD0-4D13-865B-C58C905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90C-4B2A-41C6-81E1-D8ABAC49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B4F-0FCD-422E-BC2F-5C2D22B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709-3D50-414F-BB69-492640C4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A37-B573-4466-AF4F-4A02528B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A8C-1351-4C7F-A007-3B5155D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6E1-3C99-4DFA-8EA0-731336C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CF4-A680-4B04-AF34-93058107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07CF0-56AB-47B4-BC1A-53F0842471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