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11350"/>
        <c:axId val="22754901"/>
      </c:barChart>
      <c:catAx>
        <c:axId val="54411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54901"/>
        <c:crosses val="autoZero"/>
        <c:auto val="1"/>
        <c:lblAlgn val="ctr"/>
        <c:lblOffset val="100"/>
        <c:noMultiLvlLbl val="0"/>
      </c:catAx>
      <c:valAx>
        <c:axId val="22754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11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12F-7C27-43B9-A260-6EF7EBB4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480-F7EC-436F-9B00-EEFCAA3D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893-6EEE-454F-BF4B-863A3CF9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A9D-3A35-40FD-B794-7255ACE1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7D0-F7C3-4A23-9280-3B051314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398-ADF0-4F18-BCA3-D081516A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3E6-CC7B-4B38-8F98-C108E2D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280-DF7F-4744-9526-73ADA64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174-52DB-42B0-A925-3A2D2986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ADD-2847-42AB-9D4B-08D1CEE7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7AF-9992-4484-9364-7109EF5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FD4-27EC-4A8E-B8E2-F0F8E6F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BA0DD-462C-4133-93F3-7445B27164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