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99887"/>
        <c:axId val="75281288"/>
      </c:barChart>
      <c:catAx>
        <c:axId val="37499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1288"/>
        <c:crosses val="autoZero"/>
        <c:auto val="1"/>
        <c:lblAlgn val="ctr"/>
        <c:lblOffset val="100"/>
        <c:noMultiLvlLbl val="0"/>
      </c:catAx>
      <c:valAx>
        <c:axId val="75281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99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866-E4BE-4D86-988B-12ED8022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CC0-E3D0-41E8-A56B-60BC941F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830-920E-4E7C-9330-F90EBF5A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D8E-C6FA-4DE2-AE3D-F3B87B27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ECC-FB04-4A7D-8079-5ED8798B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32A-7B85-4C79-94AB-E5C5F91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7FD-D412-421D-A03E-5FC2B6F0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0C3-F23A-4E16-A0BB-240950F8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EA1-21E4-4D21-82CE-89AB5DFD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7D5-77E5-4A13-9D13-1745E4F2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B6E-BF84-4A9B-B7EA-EB0E3B56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7B9-514A-43FA-858B-9ECD238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4552C-541F-431D-8CC3-311040B6D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