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02903"/>
        <c:axId val="83542957"/>
      </c:barChart>
      <c:catAx>
        <c:axId val="97602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42957"/>
        <c:crosses val="autoZero"/>
        <c:auto val="1"/>
        <c:lblAlgn val="ctr"/>
        <c:lblOffset val="100"/>
        <c:noMultiLvlLbl val="0"/>
      </c:catAx>
      <c:valAx>
        <c:axId val="83542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02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865-B74C-4DBC-ABD0-6247F44D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6BF-4F3B-44B4-852C-BE07C163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AF6-0E45-41A7-8168-6113010B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65F-C1E1-4666-8EAD-D3C91B0D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143-7678-4618-BB7F-437B8BB8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575-ACE0-4A90-811A-822ACDD2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37F-8253-4F7D-8793-10C34BF6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CEA-5974-4518-AFFE-FE3EC5A7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AA4-AC3D-49C6-B59F-0BC2C3E1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429-B2F5-4819-9482-6B34259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AA3-0061-4F81-9E38-5B9A0FEC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8F4-27DB-400B-A4DB-139968E2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B5FE0-FD78-4EC7-9EC9-E6D462573C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