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38163"/>
        <c:axId val="41937013"/>
      </c:barChart>
      <c:catAx>
        <c:axId val="31538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7013"/>
        <c:crosses val="autoZero"/>
        <c:auto val="1"/>
        <c:lblAlgn val="ctr"/>
        <c:lblOffset val="100"/>
        <c:noMultiLvlLbl val="0"/>
      </c:catAx>
      <c:valAx>
        <c:axId val="41937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38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4FC-A6B3-43CA-A5F0-22358BEB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731-AFEB-42E7-818F-344D812B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EEB-ADA1-4777-BC7B-1DF58960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C37-1E80-47CC-9DF7-A3A489D9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D71-E413-45F7-80D4-AAA64EFF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4F4-1634-4479-89EA-E1346E27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56E-895C-4785-8207-35338F04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DBE-2752-406E-8812-90304A7C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981-0491-4FF2-A666-E321DC7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7D0-D736-4DC9-891F-D0123CE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872-25EE-4D20-B6BF-7115855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696-C5B3-4D46-83A0-5FB395AE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AB7CA-412D-405D-A220-347C92846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