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9783196"/>
        <c:axId val="15984025"/>
      </c:barChart>
      <c:catAx>
        <c:axId val="9978319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984025"/>
        <c:crosses val="autoZero"/>
        <c:auto val="1"/>
        <c:lblAlgn val="ctr"/>
        <c:lblOffset val="100"/>
        <c:noMultiLvlLbl val="0"/>
      </c:catAx>
      <c:valAx>
        <c:axId val="1598402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78319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F1B0-4CE8-443E-8116-156FDEFF1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AB45-434C-4664-923C-5DDB44E1F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DC7B-C767-48B1-B2F9-5D2D49BA7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8B0B-65E4-4ADF-A672-EE918EB70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A50E-01F6-4CDA-A6D3-6BC258351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C630-BE68-4BF1-BB99-C393F10F4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1B5E-EB38-4E2F-9D16-42CB72530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E819-DB8E-46EA-944D-D0DC6EDA0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A5E5-E0FD-4FA8-B9BF-E2749DD8F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0A6B-77D1-47AC-8714-A1395B31B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A157-209D-44D9-8778-D3B5A6DE2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5D16-9731-4D1C-B91C-8B429E6FA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9A5444-AF3A-4F81-9E93-C135F8D3377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