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46423"/>
        <c:axId val="38013083"/>
      </c:barChart>
      <c:catAx>
        <c:axId val="99346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13083"/>
        <c:crosses val="autoZero"/>
        <c:auto val="1"/>
        <c:lblAlgn val="ctr"/>
        <c:lblOffset val="100"/>
        <c:noMultiLvlLbl val="0"/>
      </c:catAx>
      <c:valAx>
        <c:axId val="380130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46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5BDD-FD32-46A3-82E5-F12C6CCD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DC3-A3D7-4E69-B1EF-B99E0D33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87D5-6A02-4499-8FB6-FA05597D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532-582F-4698-B1FE-1B69F643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E52-FF83-44C2-82D4-2F51EFE2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2B0-7EC9-42EC-8705-CDB5BBDF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F9CF-41B4-4C74-B163-8AF8BB38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395-A878-4812-9D76-7B272A6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CC1-CA34-43A4-9FCA-02EDBAC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B642-7080-4256-BE21-1385BEC4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C280-8120-4331-905C-E5D4DF5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7DD-D9C2-4E55-8F31-F0E8F325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5C6E2-8570-4A23-9404-A7F4571AB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