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85965"/>
        <c:axId val="55002287"/>
      </c:barChart>
      <c:catAx>
        <c:axId val="82985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02287"/>
        <c:crosses val="autoZero"/>
        <c:auto val="1"/>
        <c:lblAlgn val="ctr"/>
        <c:lblOffset val="100"/>
        <c:noMultiLvlLbl val="0"/>
      </c:catAx>
      <c:valAx>
        <c:axId val="55002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85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059-CE9E-4476-A160-7808517B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FE2-065C-43AA-9F2D-69E87152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F06-BFD7-4B32-AD57-3DB2A030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C06-F915-4538-9D2C-273182D1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835-E2B0-480C-A513-6DEF0754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6A1-3C89-4A50-9724-68D6A533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FE1-3B0D-4D90-9AAC-208C91E2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3C1-B24C-41E0-907E-8E4C9D2A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62A-B8C3-43F9-9ACA-60228AC9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F9B-79E8-446E-A6AC-49B053E5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D9F-92D6-40A4-95D5-9DA7102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BC8-B46C-49F7-A8FA-6ACCA0CE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938F6-985B-4E60-BFA8-02933CFE38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