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03711"/>
        <c:axId val="8024466"/>
      </c:barChart>
      <c:catAx>
        <c:axId val="59603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4466"/>
        <c:crosses val="autoZero"/>
        <c:auto val="1"/>
        <c:lblAlgn val="ctr"/>
        <c:lblOffset val="100"/>
        <c:noMultiLvlLbl val="0"/>
      </c:catAx>
      <c:valAx>
        <c:axId val="8024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03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A24A-8D2E-4601-B4E4-9096745F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B8A-BCCF-47B8-89AB-02957A7E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B49D-9C70-47FB-9B01-BF33EFE6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4A4F-FCDD-4153-8977-D3B26424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10A5-CC9E-4EE4-A271-473B82BC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A07-88C3-43E4-B087-8D97FC5E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8EE-6EE1-4B57-8923-DA08A7D2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D8C-AD27-4B00-9DF2-337585A8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B0E-2823-472B-AB7F-C8F21A36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5989-710B-4057-87D1-61FF1433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7FE-2BAB-43CA-8C5B-89B03D7D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FA1-D1C0-440B-B62D-536CE1D8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C6CAF-2553-4C57-97CF-53C89D3471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